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6041-0923-43DA-A2FF-BC2A452B7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3747-A51A-4A28-B973-807F9774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0322-D3FD-4DC9-A031-ECE2F6017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7623-65F9-4FEF-B014-FA5CCA01E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AFF2-F5EA-4666-B483-F8BD71F2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B296-065E-434C-801D-983ED85F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167E-BFC6-482B-A3AA-355B90BD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35E2-D60D-4116-B456-6234E99F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92BB-F0FC-45C9-8257-AFBAB008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F36E-7595-4F0D-ABEB-2518A248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B03B-3F03-48D5-A585-737E61C6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AF19-ABC9-4AA3-924C-9076101A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456A-C27E-42B0-9F9E-B4F7E75DA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4854600"/>
            <a:ext cx="7315200" cy="1143000"/>
          </a:xfrm>
          <a:prstGeom prst="rect">
            <a:avLst/>
          </a:prstGeom>
          <a:solidFill>
            <a:srgbClr val="fbff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00200" y="3405240"/>
            <a:ext cx="7315200" cy="1396800"/>
          </a:xfrm>
          <a:prstGeom prst="rect">
            <a:avLst/>
          </a:prstGeom>
          <a:solidFill>
            <a:srgbClr val="ccff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609480"/>
            <a:ext cx="7315200" cy="2743200"/>
          </a:xfrm>
          <a:prstGeom prst="rect">
            <a:avLst/>
          </a:prstGeom>
          <a:solidFill>
            <a:srgbClr val="cff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7596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MOD  @  Plant and Animal Genome XV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7948080" y="176040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8316000" y="387468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54200" y="595440"/>
            <a:ext cx="6958080" cy="27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l Genomics with Galaxy: Analyze, Publish &amp; Visual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aturday 1:30-2:30pm, California Room, Anton Nekrutenk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R: An easy to use genome annotation pip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aturday, 3:50-6:00pm, California Room, Carson Hol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Resources at the EBI: Ensembl (including BioMa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nday, 8:15-9:15am, California Room, Bert Overdu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eneric Genome Browser: A Hands on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nday, 1:30-3:40pm, California Room, Scott C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Gramene (including CMa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uesday, 3:50-6:00pm, California Room, Ken Youens-Clar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ative Genomics with GBrowse_sy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ednesday, 10:20am-12:30pm, Pacific Salon 3, Sheldon McK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57960" y="3406680"/>
            <a:ext cx="680256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OD Project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nday, 12:50-1:10pm, California Room, Dave Clements, Scott C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JBrowse Genome Browser with Large Amounts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nday, 1:10-1:30pm, California Room, Mitch Skinn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pal: A Construction Toolkit for Online Genomics 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ednesday, 2:30-2:50pm, California Room, Stephen Fickl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8174160" y="52351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25840" y="4835520"/>
            <a:ext cx="420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onday 10-11:30a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858: GBrowse and Next Generation Sequencing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67000" y="5302080"/>
            <a:ext cx="3555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onday 3-4:30p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859: Visualizing and Comparing Genom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861: Comparative Genomics Tools in GMO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772400" y="6437160"/>
            <a:ext cx="1295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PhenixAmerican"/>
              </a:rPr>
              <a:t>Got geno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6520" y="601560"/>
            <a:ext cx="1377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MOD 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-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iferG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zeG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e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y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ne Geno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n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hundreds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MOD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Brow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Browse_s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gat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pres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row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6491160"/>
            <a:ext cx="3429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gmod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6049800"/>
            <a:ext cx="7315200" cy="304920"/>
          </a:xfrm>
          <a:prstGeom prst="rect">
            <a:avLst/>
          </a:prstGeom>
          <a:solidFill>
            <a:srgbClr val="efe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11560" y="6064200"/>
            <a:ext cx="4524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at least 15 other talks and 19 more posters by GMOD use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535240" y="600300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5977080"/>
            <a:ext cx="99072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7:30:39Z</dcterms:created>
  <dc:creator>GMOD / NESCent</dc:creator>
  <dc:description/>
  <dc:language>en-US</dc:language>
  <cp:lastModifiedBy>GMOD / NESCent</cp:lastModifiedBy>
  <cp:lastPrinted>2010-01-05T19:43:23Z</cp:lastPrinted>
  <dcterms:modified xsi:type="dcterms:W3CDTF">2010-01-05T19:48:47Z</dcterms:modified>
  <cp:revision>28</cp:revision>
  <dc:subject/>
  <dc:title>PowerPoint Presentation</dc:title>
</cp:coreProperties>
</file>